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gif" ContentType="image/gif"/>
  <Override PartName="/ppt/media/image3.wmf" ContentType="image/x-wmf"/>
  <Override PartName="/ppt/media/image17.gif" ContentType="image/gif"/>
  <Override PartName="/ppt/media/image2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132-21F0-457B-927A-556D9251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542-49FF-433A-A2DA-BA6775A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7D9-10DD-458E-803E-82EFD027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DC9-5BE9-45D3-B16E-6895083F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430-625B-4FF0-B137-AC2B5C6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BD1-487A-4674-BC1B-123DDB8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B5B-33FA-4BBF-AAF3-A24E78C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564-78EC-4572-8A2A-5448792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5B5-E88B-4134-ACA0-FABD32ED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EBC-4E81-4B12-92E2-48C76E9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68D-3CCF-40C4-8E1F-B7B8C7D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B95-900B-4216-A548-FE7650E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F564-77E2-4564-85CA-C09DD5C5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Una dieta equilibr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ana o mals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este artículo. ¿Lleva una vida sana? 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1341360"/>
            <a:ext cx="914400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o que soy como la mayoría de la población britán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eral odio cocinar entonces compro muchos productos pre-cocinados y comida rápida. Como unas cuatro hamburguesas a la semana y por supuesto bebo muchos refrescos. Sin embargo cuando voy a la casa de mis padres, como muchos productos que tienen vitaminas y proteínas. Mi madre insiste en que coma carne y al menos dos piezas de fruta. Y nunca se bebe Coca-Cola. Siempre pone una botella de agua mineral en la mesa. En cuanto a los productos azucarados, la verdad es que como muy pocos pasteles o carame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ando tengo tiempo hago deporte, pero soy bastante perezoso entonces prefiero sentarme delante de la tele y hacer el zap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¿Crees que llevo una vida sana o malsan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15447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4941720"/>
            <a:ext cx="2292480" cy="155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8360" y="2575080"/>
            <a:ext cx="1871640" cy="182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059280" y="5229360"/>
            <a:ext cx="1800000" cy="124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84360" y="4653000"/>
            <a:ext cx="2519280" cy="153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588000" y="549360"/>
            <a:ext cx="2224080" cy="143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80360" y="4437000"/>
            <a:ext cx="156060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49360"/>
            <a:ext cx="19684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132000" y="3860640"/>
            <a:ext cx="1511280" cy="98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59120" y="692280"/>
            <a:ext cx="1625760" cy="124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164360" y="2276640"/>
            <a:ext cx="1438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diferente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628640"/>
          <a:ext cx="8229600" cy="2275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9080"/>
                <a:gridCol w="1471680"/>
                <a:gridCol w="1646280"/>
              </a:tblGrid>
              <a:tr h="17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láct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 y legum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azuca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 gr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 y maris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400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iñones / huevos / un past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aceite / trucha / mejillones / guisantes / yogur / mantequilla / gambas / alubias / leche / pollo / cordero / pera / nata / bistec / margarina / queso / cerdo /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20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68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40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teria g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1773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productos azuc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44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en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08764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84360" y="220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rn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eche tie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511280" cy="1315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56000" y="5300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legumb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en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8492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o para la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736640" cy="16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06200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1295640" cy="133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84360" y="1989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siada charcutería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6450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asteles tienen demasiad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5373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hamburguesas tienen mu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co 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025800" cy="1368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457720" cy="273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13372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hocolate tiene mucha azú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o me gusta comerlo cuando estoy depri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4365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onseja beber vino en mod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ignifica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colesto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vit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muchas cal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mod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ne pro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materia g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a comida (mal) 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opinas de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costillas de c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salchi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salmón ah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s bebidas alcoh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zumo de naranj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 tableta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1857240" cy="14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8046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0:35:59Z</dcterms:created>
  <dc:creator>aducamp</dc:creator>
  <dc:description/>
  <dc:language>en-US</dc:language>
  <cp:lastModifiedBy> </cp:lastModifiedBy>
  <dcterms:modified xsi:type="dcterms:W3CDTF">2006-01-29T23:57:11Z</dcterms:modified>
  <cp:revision>14</cp:revision>
  <dc:subject/>
  <dc:title>Le régime alimentaire</dc:title>
</cp:coreProperties>
</file>